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artoon4.wav" ContentType="audio/x-wav"/>
  <Override PartName="/ppt/media/applause.wav" ContentType="audio/x-wav"/>
  <Override PartName="/ppt/media/hilari2.wav" ContentType="audio/x-wav"/>
  <Override PartName="/ppt/media/cowbell.wav" ContentType="audio/x-wav"/>
  <Override PartName="/ppt/media/RENSCREM.wav" ContentType="audio/x-wav"/>
  <Override PartName="/ppt/media/kiss2.wav" ContentType="audio/x-wav"/>
  <Override PartName="/ppt/media/cartoon3.wav" ContentType="audio/x-wav"/>
  <Override PartName="/ppt/media/cartoon2.wav" ContentType="audio/x-wav"/>
  <Override PartName="/ppt/media/cartoon1.wav" ContentType="audio/x-wav"/>
  <Override PartName="/ppt/media/door1.wav" ContentType="audio/x-wav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CB980-B5D2-4FFB-BBEC-EBD7ADAF2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2BC88-1277-4D5A-8D12-A740DC9F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E9942-4760-402D-8740-D27A08B06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83F96-4530-4AB1-8F8E-4F39C521C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403D-62AB-4C14-91A1-20FB108DD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16D8-E494-4185-ABEB-8826525F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A57D-FE47-4815-85C6-7A14B732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4172-C1E3-4226-9981-749FFA17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130C-48CB-468B-8369-A4D6AA3E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26E2-C501-46D9-BC1E-800F756E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BA17-1025-4C7F-A6B8-241B9430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FBCE8-73A6-4C9B-90EF-FAD132EE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4363-6C7D-4060-A262-C99FF3AF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F9E1-38AD-46E9-9B90-85339252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62B9-1281-4B91-8E68-9162050B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716F-CB96-4746-8D51-9F44EDAAD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882E-943F-4395-A286-099CC2C35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6F121-D805-4724-9FC2-EC9F5D89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E1E35-1B35-444C-BDD3-4F86B381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F4AF5-D1FC-4A39-BC29-C9632A56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BA39F-CE03-4E26-9DA4-2663C57C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72DC1-E487-4D18-90F9-A330DBFC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F0FEC-3556-4B8F-8F65-48F2967A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E2F55-A760-4C02-91DE-59BC7EAE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53041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222d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26AE-020E-4987-97F7-449877858C9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53041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222d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1185-8FD8-4900-8947-F1163B6635A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1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oor1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ENSCREM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wbell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kiss2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ilari2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3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4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2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Guess the Covered Word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anne Whit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oor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ENSCRE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" y="457200"/>
            <a:ext cx="8077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et’s review our words.  Watch carefully because they will flash on the screen for just a moment. We will clap as we spell the word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09480" y="2286000"/>
            <a:ext cx="769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Type 1</a:t>
            </a:r>
            <a:r>
              <a:rPr b="1" lang="en-US" sz="96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2286000"/>
            <a:ext cx="7696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Type next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09480" y="685800"/>
            <a:ext cx="7696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Type next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09480" y="1905120"/>
            <a:ext cx="7696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Type next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762120"/>
            <a:ext cx="7696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Type next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006666"/>
                </a:solidFill>
                <a:latin typeface="Arial"/>
              </a:rPr>
              <a:t>GREAT JOB!</a:t>
            </a:r>
            <a:endParaRPr b="0" lang="en-US" sz="10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9880" y="3352680"/>
            <a:ext cx="1667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Arial"/>
              </a:rPr>
              <a:t>Say It!</a:t>
            </a: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82880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281952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38098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47242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56386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wbe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kiss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lari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21:29:26Z</dcterms:created>
  <dc:creator>Piedmont Elementary</dc:creator>
  <dc:description/>
  <dc:language>en-US</dc:language>
  <cp:lastModifiedBy>Connie Campbell</cp:lastModifiedBy>
  <dcterms:modified xsi:type="dcterms:W3CDTF">2002-05-31T21:57:07Z</dcterms:modified>
  <cp:revision>4</cp:revision>
  <dc:subject/>
  <dc:title>Guess the Covered Word</dc:title>
</cp:coreProperties>
</file>